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3762654"/>
        <c:axId val="20623995"/>
      </c:barChart>
      <c:catAx>
        <c:axId val="5376265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623995"/>
        <c:crosses val="autoZero"/>
        <c:auto val="1"/>
        <c:lblAlgn val="ctr"/>
        <c:lblOffset val="100"/>
        <c:noMultiLvlLbl val="0"/>
      </c:catAx>
      <c:valAx>
        <c:axId val="2062399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76265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2DAF1-0A10-4D65-82ED-DE44542DE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88D50-3CB9-40A5-BEEB-F3375B239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D6BF5-EB84-47B0-8DB5-6A35D27A6C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E5D03-E2D9-490D-AD41-CED34CCC81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BA0D4D-0A67-48BF-95B0-C1F1E6F10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8F171-76F4-416A-A788-54D33AF36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C9AF1-FBB1-4205-BC52-955BBF715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531F9-4C6A-4C57-A290-3D894D6D3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69FF9-1E1A-43BB-8100-A5232A08B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FCF90-70B9-4986-867C-39795D2D4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02F70-8158-4670-AEAD-F44C88E67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8F5EB-78E8-471E-A42F-98007209B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2DDB9D-9156-4455-A610-3212F6941D0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