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689159"/>
        <c:axId val="12042452"/>
      </c:barChart>
      <c:catAx>
        <c:axId val="626891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042452"/>
        <c:crosses val="autoZero"/>
        <c:auto val="1"/>
        <c:lblAlgn val="ctr"/>
        <c:lblOffset val="100"/>
        <c:noMultiLvlLbl val="0"/>
      </c:catAx>
      <c:valAx>
        <c:axId val="120424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6891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7AC2-500B-4F34-83E2-A0CA470C6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02A5-D8A1-4E8B-970B-36F86424D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3B64-CD4D-4404-A8DF-A7BCD9AD5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576E-1DAC-4FB5-A858-2FC48E0CA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C366-9134-4BB8-B760-51E93B68B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C7DC-7248-4A39-83C8-E9A650646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B7CA-FBF7-449A-B064-30A22ACEC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C860-8007-40A2-9705-16AD70982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BC4E-438F-41AA-BEF4-1187B6084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69C7-BE9A-40B3-97A5-6C6D7278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DDD6-B2DA-4D07-B240-2D4C6E98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F600-1192-41B5-A4F0-785EB18F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2629A7-B099-4ADA-878F-CAC9223D803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