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960014"/>
        <c:axId val="7104743"/>
      </c:barChart>
      <c:catAx>
        <c:axId val="929600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4743"/>
        <c:crosses val="autoZero"/>
        <c:auto val="1"/>
        <c:lblAlgn val="ctr"/>
        <c:lblOffset val="100"/>
        <c:noMultiLvlLbl val="0"/>
      </c:catAx>
      <c:valAx>
        <c:axId val="7104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600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01E-7E8A-4EB9-AAC3-E8D00716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8FC-C44B-4B6A-9E26-3C9505D8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7F9A-5900-4C76-AD43-172CD5B3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9F01-89FD-4181-AA81-26ECD0C1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EF5F-94A3-47A0-B366-5C77C1D1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D4CF-9960-46D1-BB60-8F7588B6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AF4F-9875-41A2-B9C9-F8598FC4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E20-D802-4C61-AA29-56320334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14A-02A1-401C-8660-60E653F7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2CBB-C738-4318-B4AA-6BCC93A3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7B73-EA8C-4B8C-8CF8-FC8DBE05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5572-D063-4CB0-BCCA-0EBE0184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04309-1075-4AFA-B224-F76F179ECF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