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41964"/>
        <c:axId val="77528895"/>
      </c:barChart>
      <c:catAx>
        <c:axId val="20241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28895"/>
        <c:crosses val="autoZero"/>
        <c:auto val="1"/>
        <c:lblAlgn val="ctr"/>
        <c:lblOffset val="100"/>
        <c:noMultiLvlLbl val="0"/>
      </c:catAx>
      <c:valAx>
        <c:axId val="77528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41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7D4-DBA5-467D-B7A8-F8DF573B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382-22B8-4190-B705-0DEC1BC4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FAD-6411-40B7-AD86-DC5BE67B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50B-D237-443C-B737-453B13E8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BA9-2861-4095-AB3D-F8016FD3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7DD-20B4-4AC3-A5D7-E2EC728A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FD8-287C-4F66-BDE1-CF76EF9C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8B3-5ED2-4DA0-9449-76A2D90D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854-2EF5-4A50-AB2F-42273674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071-95F4-482B-B937-3A3AED10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80A-F9D8-4B57-9662-DCF6A632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6FF-E511-467F-A0D6-577E1CC7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B418C-D80D-4E87-B154-551D71BF00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