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89806"/>
        <c:axId val="72934902"/>
      </c:barChart>
      <c:catAx>
        <c:axId val="20089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34902"/>
        <c:crosses val="autoZero"/>
        <c:auto val="1"/>
        <c:lblAlgn val="ctr"/>
        <c:lblOffset val="100"/>
        <c:noMultiLvlLbl val="0"/>
      </c:catAx>
      <c:valAx>
        <c:axId val="72934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89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412-59B9-4E2B-A250-A0520CF6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9C35-86EB-43C3-8B7D-45A13C47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D7E9-11F7-478B-9B68-34843E4A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24BC-E460-4FFB-B252-2E069B28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F9D0-38AC-4A98-87CC-03E2DB7F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DFE-07E2-40DD-BB1D-6D2EB892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571-B471-471C-8D78-09748758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7AA5-0941-415B-94CF-FE4AD399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AB0-778A-43F7-B4F0-428EAE0E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62D-D96F-4E9B-AFAC-33B78BC0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1BAB-3F4B-4AC9-ABFD-82473705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E10-A03D-40B2-83B4-29F29871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2AC75-C8E0-4258-9373-1F4F885B27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