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40585"/>
        <c:axId val="20359841"/>
      </c:barChart>
      <c:catAx>
        <c:axId val="10240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59841"/>
        <c:crosses val="autoZero"/>
        <c:auto val="1"/>
        <c:lblAlgn val="ctr"/>
        <c:lblOffset val="100"/>
        <c:noMultiLvlLbl val="0"/>
      </c:catAx>
      <c:valAx>
        <c:axId val="20359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40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4E5-8310-4C3C-B09C-CF6CE5CB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4F9-407A-4235-A690-52B22E0D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9AE1-8963-4200-B6E8-647E73FD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94F-98A3-45D7-AF70-578181CB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668-BFE5-4A27-BE6B-1888E0A4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3C9-955D-4C97-B768-CA2B55F7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7C4-CAB1-47C1-8AEB-D257BFB0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365-E5EB-4F19-9720-8AAC9FCF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656-34A3-415D-8589-7FF34E0C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23D-59C0-4FF9-8DAA-A5D826EC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E2D-3B68-4B3E-86FF-74468EE3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256-30DE-477C-BCBA-4352A8C7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02324-B0EF-4183-AC7A-5C332324D6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