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5570087"/>
        <c:axId val="68055676"/>
      </c:barChart>
      <c:catAx>
        <c:axId val="3557008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055676"/>
        <c:crosses val="autoZero"/>
        <c:auto val="1"/>
        <c:lblAlgn val="ctr"/>
        <c:lblOffset val="100"/>
        <c:noMultiLvlLbl val="0"/>
      </c:catAx>
      <c:valAx>
        <c:axId val="6805567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57008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B33F6-7809-495A-8ACA-52360D6CA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5E578-EB58-4D3E-A4CD-19E1F1D6D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A37E3-5DF2-4777-999C-2509F7FC8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8F74C-F4C7-43A6-BA01-A088F3C76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DE51A-E3B5-4A20-9FDC-4249DA983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25F36-F0C3-4F31-A4F8-75165CBFB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ABD6F-2160-4288-B741-B4EE6B25F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448A2-9D21-4745-8084-4B0AD01F7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B8AB8-E077-49BD-AB93-057DA901F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93164-CC1C-414A-9CDC-6CAB46513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914BD-1929-4DB6-903D-42C13FA73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1E5E4-750C-440C-8BB3-79026FBF1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06AC11-97E1-4BEC-B99B-9521E2A1653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