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87853"/>
        <c:axId val="14511092"/>
      </c:barChart>
      <c:catAx>
        <c:axId val="5878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11092"/>
        <c:crosses val="autoZero"/>
        <c:auto val="1"/>
        <c:lblAlgn val="ctr"/>
        <c:lblOffset val="100"/>
        <c:noMultiLvlLbl val="0"/>
      </c:catAx>
      <c:valAx>
        <c:axId val="14511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30F-1D86-413C-9340-913BA156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77F-57C1-4709-9BDC-F8B8B2D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F69-4761-493D-BEFC-0DC5F6F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10B-A12C-432D-98B2-D98DBC99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DAE-42DD-4D6F-A14A-20292B4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4A0-5514-4328-9A8A-75CF5645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7C6-C67D-46C4-B5EB-BEA9861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4EF-3D40-441B-AA6D-73DB3BA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FFF-96F7-4182-A0CF-549468B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258-2053-4FC9-8A34-DB47D76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272-5F46-46D5-BA26-1D4F9FF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507-7589-4437-A9B3-28B9A11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6AFF9-3F4E-4790-8C0D-A14C7C9FA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