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08873"/>
        <c:axId val="19820213"/>
      </c:barChart>
      <c:catAx>
        <c:axId val="75408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20213"/>
        <c:crosses val="autoZero"/>
        <c:auto val="1"/>
        <c:lblAlgn val="ctr"/>
        <c:lblOffset val="100"/>
        <c:noMultiLvlLbl val="0"/>
      </c:catAx>
      <c:valAx>
        <c:axId val="19820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08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B9D-4B3C-4A21-BD6C-EF249F7C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573-5707-41A9-9BDF-EE7FAAC4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5CA-01E3-4E9C-AD22-5A129FBA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9D1-122D-4C31-8A49-F6263EFB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618-F41D-4B88-BEB7-59DC07B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DF1-1C4A-444B-BB6A-B9E9E33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1B2-F259-43D9-A503-2616217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730-01EE-438B-B1B9-01494A2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10D-161D-4528-80CB-EAFBCA21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C12-2C6C-4173-AF59-D96CBAB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E1B-9E67-41D5-B77A-7E7E8AB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4DC-AE57-4EA5-B0E0-4D6DC22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2F42D-85D6-4206-BD41-3A4584972D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