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51881"/>
        <c:axId val="65825302"/>
      </c:barChart>
      <c:catAx>
        <c:axId val="24851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25302"/>
        <c:crosses val="autoZero"/>
        <c:auto val="1"/>
        <c:lblAlgn val="ctr"/>
        <c:lblOffset val="100"/>
        <c:noMultiLvlLbl val="0"/>
      </c:catAx>
      <c:valAx>
        <c:axId val="65825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51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861-BA74-4F1C-A7CA-556275B5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859-2A7A-4D79-B488-8BA5EC05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C1CD-9E81-4567-9B5A-538A5547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8E0D-9549-4CB0-A335-41DA2718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DAC-1B5B-40A4-ACB5-ED01D029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1BE-EC6E-4241-B605-655DB31F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FE90-74F4-454B-9D5A-C66BC121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0246-7884-4D67-9A0A-D1A36C8D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074-D515-4053-B4A7-F453518C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AB4-E4D2-4E61-8DED-16B07705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CCC-D262-4DB5-A143-5875DD5D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F9B-89D6-4DEF-81FE-F0743B78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62702-BBF7-4F95-8EC2-2372536BE7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