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56043"/>
        <c:axId val="30897164"/>
      </c:barChart>
      <c:catAx>
        <c:axId val="83156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97164"/>
        <c:crosses val="autoZero"/>
        <c:auto val="1"/>
        <c:lblAlgn val="ctr"/>
        <c:lblOffset val="100"/>
        <c:noMultiLvlLbl val="0"/>
      </c:catAx>
      <c:valAx>
        <c:axId val="308971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56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B5B-EED3-4EB4-A926-3BAE175C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CAA-5724-4B4F-8E57-68EB8285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93B-78B6-4BDA-9127-B37B0373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EC8-617F-43FF-88FD-C9B9B791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F33-ABFB-4631-99B6-0C5F593F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9EA-5CB5-4DA9-9BC6-1888DEE2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22D5-AB96-4C50-8F22-79C8D737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3C4-346E-4133-8F9A-6F4CAA2A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4B0-25F8-4AE0-9CF0-BD28164C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DA8-077D-4390-9AE2-57A4537E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DB7-8D59-411E-A4A3-BA70F04C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1BD-5A19-4EA0-A149-A74EBBCA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A8D2A-BD6E-4F48-894A-3486196D04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